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79737"/>
        <c:axId val="41315719"/>
      </c:barChart>
      <c:catAx>
        <c:axId val="74779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15719"/>
        <c:crosses val="autoZero"/>
        <c:auto val="1"/>
        <c:lblAlgn val="ctr"/>
        <c:lblOffset val="100"/>
        <c:noMultiLvlLbl val="0"/>
      </c:catAx>
      <c:valAx>
        <c:axId val="41315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79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B38-711E-44C1-BEC2-08972D03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EC2-4DE0-4788-8DDB-9CD4609D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2E3-1247-4774-8742-3BE4DF79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B23-31CB-42F5-89C6-40A2A0C1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90B-7416-43CB-9B76-358AE03F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62A-ED28-447C-AE44-1BD103DA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624-475F-4C8B-B7FC-3EF38163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43EA-8C85-4033-AA8F-E7A2EA1F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C326-E249-4A33-BF39-5691AC24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CFAC-063F-463D-A135-6E2475CC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2A4-0B37-4212-AA34-ED505E9D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4A9-4D86-4B6B-94A6-46E821AF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C0FBE-5CF7-4E90-8321-86AD76CF9C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