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05D7C0-A95F-4015-978D-ED334AFECB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5BAFE2-AAD5-49F3-9083-23CBC9E01C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139D3C-DF9C-4DA1-B59A-B7FD8AAB50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0215BA-E306-4320-8183-995BE2D113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42D4D0-71A6-490F-95D6-4BC3E7B05B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7F2C50-BFC9-4F21-AB9F-18A3D72E3B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A44790-6C9D-4E69-B342-FB3904B444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D33B3F-7DC7-4F94-AFDD-3F2B6E48BA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763E2E-FEBB-4216-BD3B-DBFDE3D1F6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52F788-52CA-40B7-B41C-477E043B35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CCAB80-1BBF-4341-97F4-7FFB82A219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041A15-5DCE-4672-BD8F-3D24F8718C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AA2F79-63FC-4854-8D08-AE5F85717F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B87145-6F1C-4EB0-A350-BBE4B4BA98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972F29-40FE-4197-8087-81AC4050AE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BED48C0-75FE-4D49-99E9-39B561E2DC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A614A3-D43B-463C-A30E-EEF849B8FC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F87CF6-12D0-414B-ADF0-3F5C3E3B99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7F8B0C-9C37-49DA-9B60-961E0D0385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E2F2B6-CF25-4082-9A15-6F8FE4F227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76265C-462F-45BB-A1D0-5932D6F958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87E562-A285-49EB-95E7-8F5D9F3D33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A00A8E-6AED-4258-91AF-D52D5EB2A1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746EC7-DAC8-465E-AF35-828785F5FE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AF068-2BFE-49AE-BA9F-DD743886110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80A20-CEEC-4800-BD61-D0314ABCA7B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6A2DB13-C834-44E9-A0F0-03FBAAB96D3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BFCC434-0AF2-4EC7-9973-AD551AB9718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813056-35B5-4C64-8834-F18D4D7AC68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66F92D-DBE0-4FB3-B46A-074B45E7859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E4AF85-8D81-486C-8BBB-AEF9B622004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087894-8C4B-4046-A2E0-8C8CBD20783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6C62DF-F12C-410D-ADDB-6FE9D23F78B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096872-A4A7-42A7-B1D3-DD24AC2A9EA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921C17-B1F8-4FE5-BB06-DF138B22B267}"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F17952-1675-40B2-A501-CF0B66645D8A}"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FECD86-AFD4-4480-B14D-8ABC478DFD20}"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6ECC03-01E7-4740-BED6-C2CC00D5F4B4}"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7F0DB4-3061-488E-96C2-4B9F36593F4C}"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54CB54-DBA1-4BEA-8445-635D8E82BC8F}"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D08041-B548-43B0-8A15-CF62740AA4B1}"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E6FB58-F322-4D01-9D64-7228E0FC651F}"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F233AA-C44D-45AD-9332-43983F0C63C1}"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F7BE1F-D1CC-488C-8C43-64EDBBD0F6BD}"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CC3BA2-94FC-4F84-9C2B-8BB43AF3BA5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99C877-4ED4-46FF-BBF1-BD250C491124}"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384350-4322-4DC1-8EF4-6322CBF4CA91}"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6F15C8-37E1-4CFA-8DC2-FA94C825C9F2}"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E45E40-9A88-47B7-B20E-4F5141F2511E}"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0B62C8-2D7B-48CC-B56F-934B7567C510}"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2A8AAA-E227-4226-9875-DDC6CDE8FF67}"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06A5F3-5C23-4092-B5FF-B1D1143ED19E}"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B7DC85-F588-4C5B-85CF-02AF40C35D30}"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797E125-A644-492A-9052-98FFFDBD4EFF}"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AB8DDF-1AC3-405F-93A2-486C677F58FB}"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3136FB-1DA0-41C7-A73E-E42BA41F69BE}"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B9C0DF-A84D-446B-A960-E88C4D4B99DA}"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CEBE1E-B341-49B3-B7DE-63FF7561095F}"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2E0657-E7AF-48A8-BB78-F08F70013782}"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C847AC-8563-440D-AD97-CDE102BD999F}"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D2703D-C0AD-471A-8FF5-20CAD1B2730E}"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CF36F1-FFA3-43BA-8E5A-DCE8D439AC49}"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3B9FF7-F1C0-4C00-8AD9-1A578D645409}"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8F6958-081B-4AFC-BF5D-3CF17582E41E}"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F9DB60-975A-40B1-B00F-62BB0E92BFC5}"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991B6B-EE78-43A9-9B5F-1A03C9A24995}"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17473A-6D6D-4799-9693-28C2F8520847}"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A9F742-AE05-40E6-8E9C-71C0C4F42D15}"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0C69D3-72B7-4D54-ACE9-951FF9AC4B3D}"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6674F1-7164-4BC4-ACD6-2BD9B889E1C9}"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1C023A-D13F-495B-A12B-F17D587309C5}"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7CEFBD-DEAF-4E4F-8727-DF17A88C3EF5}"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B92C67-A4FA-4DA5-B077-99A53220C0DD}"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9D831F-F83E-43FB-A008-92F3AF397EE2}"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4956CAA-02DC-4131-AEF5-58322A791782}"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713E41-EEB7-44BD-A41C-FF029BFB9163}"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F948AC-2F74-45F3-AC02-015B17E1C92F}"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D795FEE-0E66-4415-8F20-A66574094764}"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44FA57-EC0C-40EC-983B-179A3039BB9F}"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EBBEE0-7218-452B-95FF-B07FD1C3AF34}"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835B34-DE69-4524-B030-B585CB50CA42}"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1E73F0-A9BD-48CB-9A92-E986533736F3}"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E49E19-BB56-4791-A38A-28F36B29EEE0}"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9CA23F-18FD-4214-8CD8-723B5004B32A}"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279CDC-8E7E-4C87-9989-2DB4E34E17FC}"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9A2FAE1-259C-42EE-BBDC-383D985DE11D}"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3F190F-9E2B-4A75-9A54-C765D3A2393D}"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63AC50-31AA-47DD-8CE1-9612BFFA6B20}"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BE6D6A-9A6C-4C2B-9758-2BAFE2472C56}"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9D5DA0-2A68-4CAB-AEFF-FCF6F618126D}"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16B8D4-034B-408F-8B8D-164DF21260E1}"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F87D98C-DE85-46C8-BB1E-B48F1E5256DC}"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5C2410-789F-4077-9AD0-A95510446E5E}"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57734F-6A27-4B5E-B60E-FED0DDB469D7}"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17993D-1CD0-45AB-9342-D9F42EF11FDD}"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7C49C4-45AE-4338-992C-2AEEFFCB0AF8}"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C76E8BA-32E8-4E75-A3C3-A05074A7CB3E}"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D4FF75-1DE8-4C5E-9394-505137CE5557}"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AB34D6-185D-4766-8BED-8E0B9F217155}"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A95805-5109-41E2-B0BE-1A4D304BB918}"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66E902-9482-4085-94FF-0A17C229594D}"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CE7FF1-8144-49A7-ADE5-48A4E671F6DD}"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F8BF92-EBE2-44A6-9905-8E3A068D2340}"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505AAC7-993E-4E40-B30E-CEC8BAD08B7E}"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CA891E-2587-4A93-8801-50C3616876F5}"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E05398-F596-42B6-8791-D64304D1DF56}"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73C2AF-7665-4B6C-BAF9-3BB1C79A7058}"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C359748-5DA4-4F79-B5C8-15E323E816C8}"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2CF16F-FDEA-4E22-B1D6-FB857AEC544B}"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23770F9-5D33-44EF-A3A4-3D5FB5F8424D}"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764460-0649-460E-B351-495E4985A2E9}"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EC3441-A7A9-411B-829C-4DDB2596C616}"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914A03-B477-4B7C-A902-5F23F1FF9B4F}"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2FAEFF-09B5-4B54-90E8-BF9BBD456D03}"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AAC703-4EA8-4B2D-B142-A009992D8AD5}"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2B6E20-9018-45EA-B8A1-D522F1E1E1D5}"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1B0DEB-361C-42EF-99DA-D4DA58C66B70}"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A8E1A5-952E-47AC-AF54-A9898A4CFD82}"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E10D5A-7A26-43B7-BAA7-EC0B8658EE83}"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0A6A44-C431-4DC0-A771-71B66B4A907D}"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B125FC-82A9-4783-AF45-7B56F11F1A87}"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4283CC-0CFF-4AF2-98E1-C6FA0C3B53AC}"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A8871F-B20C-41ED-A1C6-C587CA9422B9}"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ACBD45-A0CE-47E2-AD60-F8C863804765}"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BB55ED-868C-427A-977D-90064AC0AA51}"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A90611F-3F6D-4A15-9EE4-9768AAA8D3C2}"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34EB20-6BEE-4B58-B53E-C75D4D08ED28}"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63CF0D-3268-4964-A2DA-2671EF2B584A}"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D63C31-3A4D-4958-800A-6AA9F5E9C77B}"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F34EEE-44A6-4E8C-B910-6296CAA4CD1C}"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EE2577-7660-45D6-B43E-15082F0C0457}"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F5D7A8-74FF-45B5-A0E9-ADFC4007C8D6}"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72C198-57C4-4AF7-8FAC-314C18176405}"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024EAD-A77A-4EBE-A122-937FFCB9A5B8}"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B7AB5B-B850-4133-B2BD-B9255115FB6B}"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DE24BD-DA52-4B43-BE3E-8FCEC1B9F00D}"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D545B0-84BC-40E0-B896-1AB1F52FDFD5}"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37F224-9615-4C75-91C6-DBF9B447BCC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23AC09-7634-49E1-A387-E2471ED0DA74}"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09D37A-A21B-494D-8A37-FD471EC0E662}"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38BD3A-5690-4645-9D45-6FAD9113585A}"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70EA54-93F7-472A-9019-3173526E11C8}"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4D0E92-68FC-4B57-8D63-1DFA28AAF56D}"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1F10C7-A86F-4AF3-B631-E23593DA251C}"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942E5E-B78F-4C86-8F8F-C53FC168F660}"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01320C-BFFA-438E-9FD0-FA7038BC32F9}"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4467C4-C265-4FF7-9715-9544CF48FFE6}"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8CCEE1-9A55-4755-88A5-0C3C325F56C3}"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E098BE-A877-404D-97D8-2E454DF4E271}"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6D5E67-A7FC-4951-A1DB-8118B826DAEB}"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453ECD-10DA-4ABF-87B8-D681D4ECBEB2}"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50A7A5-C5EF-4D8C-A6E0-96997F60E3DE}"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8E95D7-2D18-41E2-8D24-B9E691227F3D}"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B6A4A76-5C18-4C7B-B154-89E4726527E0}"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68CFAD-1CC5-4758-BEE0-07C49C96815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59B0B0-F1A6-4AEE-9875-1D5E49675D6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712A1C-66C7-4CF5-85F4-AAD3D03541A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394AC0-B327-4315-9BFE-6323CA5149C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46EEB9-ACBE-4DAC-8254-C5A5FB7D7B5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9C227F-3B86-44D3-9937-6AFD8C6C072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B149110-0AE6-461C-877C-C90A9175226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CA67DB-0127-4A63-8D90-5F00B897CB3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98C833-9107-4A04-981B-2DF16AC7676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0B874D-AC29-46CD-941C-1CDD0FBEC34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3E79C1-D4CB-4753-AED6-D59B8121169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C6EC43-C72B-4564-AE50-1C1C7B62C05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D98CF8-7E25-4891-95AB-C85D80CB528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68914D-5ACE-4336-86B8-E77B387B9E4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E8105F-6DD1-442F-AC7D-A1B6FE39F01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4C7CE0-7F54-404D-9873-2AAF7FCE6B8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8DCDEC-1C47-4B5A-90C7-F5972483BE1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44C1D5-A650-43D5-9AE6-C399F5DB06B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C8F066-F1C8-44C5-96B1-2A7CCAFE7BB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DB0E87-FC1E-4499-AB49-633F8F507AC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14F74F-F253-4430-A459-0B615E59B4D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CFB184-DF54-45BF-A51D-A5098BEFE3B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8FE89C-DDBC-4204-8F31-49C7955381B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371587-166B-4F77-88E0-BC62D2D4196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EA6C55-E645-41FA-8243-F8BF6579121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17EAB3-BA08-451B-BA7C-E850F9B2674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76253B-D950-45FA-BC4A-148FA13B6CC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A61EC6-98EF-4196-9FF5-13056E0A976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DB17E4-2581-4F33-8A47-9C130173FD2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34FFE2-0190-416A-B6B3-7FB510BAC0D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C38ACE-F658-4820-BA38-4DF4BCD9624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85D710-8B50-4D38-A812-77B45B7912F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5EE863-2D67-46DB-B393-124F7CB4F0C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7B88D5-D097-416F-82B1-563C6F78D6C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DEECFA-B84E-4159-8ED9-A5F66E561A8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242235-4C6F-442F-B2D0-DD29C963720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01D7E7-5667-4AEF-9353-842638721A2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3A28FB-B0BB-4C8B-9D83-C7C2B680F0D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986C30-0DED-4592-9414-D460266763D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871E8D-2929-4CB6-9389-C05018A8ACF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7CFE21-0C60-408B-AC24-8E6ED80A7A2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924131-BF4D-4911-87AC-C0F095ECA2E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14A986-CB8C-4A8C-A1FE-32E96EDF1CC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19DBB0-F236-4C2A-83A7-4D7F1DDA0D9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107288-29A4-4DA9-815C-BAF3F909DE2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29A587-A9F9-4D9E-BB24-39B29B1A9BB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42613E-8814-49B4-AB97-2343A34CAAD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EE927B1-089D-4971-8FE9-53481CE346D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F23F89-4DC6-4AB1-BA87-298F8AE43E9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778B4F-2DE9-483F-95F3-43B05F23B87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94F605-E921-4876-BE7B-F929DAE3ECC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4B6986-01C5-4FB5-A4B2-AB06DBAF608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2FB1BA-D649-492B-A8EA-478EB67D8B8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795DC1-9FC3-4723-B563-67D89C943CC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60D904-DF60-48EB-969C-31CB9156D75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8F4D0E-0158-4F99-B92D-28D0516EB45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FD1BC2A-74B1-4391-A60D-A633D2BED81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7E82CE-2430-4F4E-837C-155B33B6364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18D052-63FE-4A0C-84DA-8DBC8C9064D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70D580-5634-41B4-B52F-1066589F91E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6332E7-3129-4D7F-8723-0D325012CB4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D0C732-DF70-4442-8991-DA10334AE46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918B73-A79A-4F14-94FE-DC54C194002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BBBC95-DF3F-4D43-8778-7A4205D531C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3AEC46-FFA2-4502-A592-2D93262DA75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98C59E-40B4-414B-A9D1-F71BEE6DBAE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9D6D70-B3AE-4603-B808-9EB32E29470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4968F8-C3B4-46E7-9803-35A679C2AD6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BB0127-A6F7-4D54-99FC-DE9BC4D88F2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45C102-88F0-4730-BE79-0D4563AAA77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353B69-3CE6-4B2D-9EEC-5F7E0368365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7CC2BB3-7F69-48CD-B8F0-9FB23C222B1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E069AD-90BD-4577-8F5B-3996C326EA0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38B30C-8170-4722-B8DB-821C8ED5FE6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D92249-7FA9-4F36-ABA7-00DEED2B368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4A1792-C3C8-467D-B285-68A2ED94948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A13E03-03A7-4419-953E-DA73567243D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95C525-FFD6-4240-97F3-4E1064EC786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9B0BEA-0CD3-4816-BDB1-0F624CC4686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1CE9BB-36E7-4DDA-87BE-0F2B298E1F8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E003FF-AAB7-417F-8C30-A7C0FC0A952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14B807-57E2-4ADE-9BAD-D9EE19DD01A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2263E1-44B8-48F3-96DE-7078E145471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728777-57D0-4824-AFC0-8655D5CAD3D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A0E47F-AEE6-4398-A9B7-6F7CBF4D91D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