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19424"/>
        <c:axId val="37387525"/>
      </c:barChart>
      <c:catAx>
        <c:axId val="63319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87525"/>
        <c:crosses val="autoZero"/>
        <c:auto val="1"/>
        <c:lblAlgn val="ctr"/>
        <c:lblOffset val="100"/>
        <c:noMultiLvlLbl val="0"/>
      </c:catAx>
      <c:valAx>
        <c:axId val="37387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19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66B-3E8E-4D26-9336-A68EAFB5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EE1-65D7-49A9-8F15-8AD73175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24F-8006-4B05-882D-E7AF634E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0EE-4923-4013-AE52-086993FA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C2A-817E-48D2-A8A0-4BB07EBB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141-FAA3-4D86-983C-3D580F8A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638-863F-4065-A30F-70751948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C35-450B-4944-8862-FF2F9995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C1C-367E-4513-81A4-0D7DDAF3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F8E-E093-4895-85B6-61EAEABD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71C-E8BD-4E73-9712-514AB597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73DF-EAB8-4512-8DB9-81A2F483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E328B-A711-47DA-94E3-AAE24C47FB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